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78A-D944-4EB3-A13F-E4163170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443-75CC-40DE-A786-4B01067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FFE-DD29-4F59-B6B1-1A6858D4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D1F-770E-41F0-A3A2-15074ED0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101-C6EA-4000-B9F5-B1261903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0244-9934-4F89-B0EF-3B5EA41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0D1E-37A7-4B14-9A65-7A733A6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873E-C806-4E01-87AA-D7AE5A3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0FA9-360D-491F-AF55-F2F6592D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872-AD0C-403B-B905-4994B7D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DA2A-978B-442E-9C8D-C173AC3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566-E3C1-4F0F-8D50-0053A5E5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A325-C6B2-4984-B706-2B00E47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79B-F4B5-467B-B1FF-F757A835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08B-F7C6-4539-B347-FF2AA4F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221-D275-444F-8D75-5CA979CE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35E-1207-4F32-A9A1-3FB79E64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3F6-80B5-4751-8AEF-2851B9C8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80B-B6C1-48D2-BE0B-AC4E62EB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E0F-9936-4874-8E99-6FE5BC88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964-1902-4940-AEF0-7B0359C1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508-552A-4A6A-9CB0-4D98C7E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60A-9285-473F-A83C-FE10E48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3BA-3D0B-4188-97E4-F2EACB3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35B-5F6C-4520-9F39-E8C92AB07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584-ED35-4B68-8480-0252DB69C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5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20.xml"/><Relationship Id="rId14" Type="http://schemas.openxmlformats.org/officeDocument/2006/relationships/slide" Target="slide6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1.xml"/><Relationship Id="rId18" Type="http://schemas.openxmlformats.org/officeDocument/2006/relationships/slide" Target="slide7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" Target="slide28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opard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Brown’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io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3048120"/>
                <a:ext cx="39070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7960" y="3048120"/>
                <a:ext cx="3649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14600" y="3186000"/>
                <a:ext cx="4235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09680" y="1967040"/>
                <a:ext cx="4311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70640" y="3541680"/>
            <a:ext cx="53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discriminate of the quadratic equ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2057400"/>
                <a:ext cx="50230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821600" y="3693960"/>
            <a:ext cx="67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solutions does the following quadratic equation ha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2286000"/>
                <a:ext cx="50230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69560" y="407520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ype of solution?  Imaginary or R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00200" y="2133720"/>
                <a:ext cx="5022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 Formula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2840040"/>
                <a:ext cx="4565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[image]"/>
          <p:cNvPicPr/>
          <p:nvPr/>
        </p:nvPicPr>
        <p:blipFill>
          <a:blip r:embed="rId4"/>
          <a:stretch/>
        </p:blipFill>
        <p:spPr>
          <a:xfrm>
            <a:off x="2743200" y="2286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[image]"/>
          <p:cNvPicPr/>
          <p:nvPr/>
        </p:nvPicPr>
        <p:blipFill>
          <a:blip r:embed="rId4"/>
          <a:stretch/>
        </p:blipFill>
        <p:spPr>
          <a:xfrm>
            <a:off x="2743200" y="2514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dra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1680" y="1676520"/>
          <a:ext cx="8540640" cy="447660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7840"/>
                <a:gridCol w="1708200"/>
                <a:gridCol w="170820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ing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re Root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dratic Formul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phicall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Problem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e9e9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509120" y="636120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9e9ff"/>
                </a:solidFill>
                <a:uFillTx/>
                <a:latin typeface="Arial"/>
                <a:hlinkClick r:id="rId22" action="ppaction://hlinksldjump"/>
              </a:rPr>
              <a:t>FINAL JEOPARDY FINAL JEOPARDY FINAL JEOPAR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[image]"/>
          <p:cNvPicPr/>
          <p:nvPr/>
        </p:nvPicPr>
        <p:blipFill>
          <a:blip r:embed="rId4"/>
          <a:stretch/>
        </p:blipFill>
        <p:spPr>
          <a:xfrm>
            <a:off x="2971800" y="2362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[image]"/>
          <p:cNvPicPr/>
          <p:nvPr/>
        </p:nvPicPr>
        <p:blipFill>
          <a:blip r:embed="rId4"/>
          <a:stretch/>
        </p:blipFill>
        <p:spPr>
          <a:xfrm>
            <a:off x="2590920" y="2286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cally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[image]"/>
          <p:cNvPicPr/>
          <p:nvPr/>
        </p:nvPicPr>
        <p:blipFill>
          <a:blip r:embed="rId4"/>
          <a:stretch/>
        </p:blipFill>
        <p:spPr>
          <a:xfrm>
            <a:off x="2895480" y="2286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icture has a height that is 4/3 its width. It is to be enlarged to have an area of 192 square inches. What will be the dimensions of the enlargemen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duct of two consecutive negative integers is 1122. What are the number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ngth of a rectangle is 6 inches more than its width.  The area of the rectangle is 91 square inches. Find the dimensions of the rectangle. 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garden measuring 12 meters by 16 meters is to have a pedestrian pathway installed all around it, increasing the total area to 285 square meters. What will be the width of the pathway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Problems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to make a square-bottomed, unlidded box with a height of three inches and a volume of approximately 42 cubic inches. You will be taking a piece of cardboard, cutting three-inch squares from each corner, scoring between the corners, and folding up the edges. What should be the dimensions of the cardboard, to the nearest quarter inch?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ger a small amount of yours points are wager all of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answer hidden till everyone is finish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3400" y="2284560"/>
            <a:ext cx="88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duct of two consecutive od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gers is 1 less than four times their sum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two intege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2666880"/>
                <a:ext cx="4194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05120" y="2813040"/>
                <a:ext cx="4351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3021120"/>
                <a:ext cx="4083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43000" y="2971800"/>
                <a:ext cx="7435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ng -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14560" y="2819520"/>
                <a:ext cx="4852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25920" y="3048120"/>
                <a:ext cx="2239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 Roots -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1447920" cy="144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90920" y="2819520"/>
                <a:ext cx="32432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1:56:18Z</dcterms:created>
  <dc:creator> </dc:creator>
  <dc:description/>
  <dc:language>en-US</dc:language>
  <cp:lastModifiedBy> </cp:lastModifiedBy>
  <dcterms:modified xsi:type="dcterms:W3CDTF">2012-03-03T01:17:18Z</dcterms:modified>
  <cp:revision>2</cp:revision>
  <dc:subject/>
  <dc:title>Jeopardy Math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